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3213-F7F2-40D8-93A2-86A026049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43CD-AB8C-485F-862F-49B1983C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4A84-C2CE-404C-B48F-45773F3E8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6C08-C0E0-42A0-BA38-E17F12E3B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948F-2997-4262-93DE-86CDE906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48B4-7F20-4C50-98F8-9892E236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AEBB-53EB-47CE-89C6-04B2C742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6973-042A-4CB8-8866-6BBAD392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AA11-762A-4E8C-9094-FFBC959D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A2DE-D08F-4DC0-8BC6-28EF1816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2AEF-EA25-4B60-9CD3-54191285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99D6-3B9E-4945-B585-59325D0B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7A4C-E063-4A4C-96BA-5F43628EF1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228600"/>
            <a:ext cx="876312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anguage Point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I don’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enjoy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singing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nor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do I like computer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enjoy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+v-in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e.g.I really enjoy listening to classical mus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895480"/>
            <a:ext cx="876312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nor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由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either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o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引起句子或分句（在否定句后）说某人、某事与刚才提到过的相同，这时要用倒装语序，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o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更正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.g David isn’t here tonigh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____________________.(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汤姆也是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50292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either/Nor is T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6T08:51:45Z</dcterms:created>
  <dc:creator>user</dc:creator>
  <dc:description/>
  <dc:language>en-US</dc:language>
  <cp:lastModifiedBy>zhangjunguang</cp:lastModifiedBy>
  <dcterms:modified xsi:type="dcterms:W3CDTF">2003-08-08T14:14:13Z</dcterms:modified>
  <cp:revision>8</cp:revision>
  <dc:subject/>
  <dc:title>PowerPoint 演示文稿</dc:title>
</cp:coreProperties>
</file>